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945-4027-4A68-9325-9379E03C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7B3-8F22-4762-A0A8-33066FE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03A-DAA4-493D-A29E-1CB5C1FE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13B-0947-43C0-BB5A-BE42EE1E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EFD-BA36-4134-BAED-317C6C07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359-6C3D-498E-8BA6-DC67FC1A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1FF-A6D6-447C-B8E2-FCA6AB77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EA3-261C-42CF-8E29-42A6120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B9D-B8BF-4277-89DD-D3B9DFA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AC3-58DF-4C9F-B248-A02A0C1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483-0A2F-4936-9473-74B2A62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EB1-E5D7-494D-85AE-9D6A277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0D8-B6EC-4D16-AFDF-A3107FCC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8:45:49Z</dcterms:created>
  <dc:creator>user1</dc:creator>
  <dc:description/>
  <dc:language>en-US</dc:language>
  <cp:lastModifiedBy>user1</cp:lastModifiedBy>
  <dcterms:modified xsi:type="dcterms:W3CDTF">2013-09-11T18:47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