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A5F-4B04-4D6D-961E-A05CC49A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FA2-369F-4368-9D44-0A6E28F4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6CA-4CAE-4648-9100-663F8C0E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C13-B377-4EA1-8F58-61108357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B90-32F7-432B-A3B7-061218E2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CCB-14DB-4B37-B4A6-E3D662F9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A48-FDBC-4CE2-AC66-2E4F0E7F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415-94A2-4813-8AF0-60E2EBE8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DF0-1689-451E-9762-3FEF8CF2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43F-FDAF-4904-AD23-443B1677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DF70-3C8A-474E-964D-9110F145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400-A3A9-407C-AAC7-2B6E6FD2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C8FF-78A2-4233-9A12-ECFBA5763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abriela</dc:creator>
  <dc:description/>
  <dc:language>en-US</dc:language>
  <cp:lastModifiedBy>Gabriela</cp:lastModifiedBy>
  <dcterms:modified xsi:type="dcterms:W3CDTF">2013-09-11T18:52:13Z</dcterms:modified>
  <cp:revision>2</cp:revision>
  <dc:subject/>
  <dc:title>PowerPoint Presentation</dc:title>
</cp:coreProperties>
</file>