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FF1-9E93-4E75-970B-47D59EA3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74D-2E1D-4FF4-9227-4AEB1DE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C41-C754-46E2-BF2A-D5F2208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03B-62C6-4BB2-B56F-A326690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F58-5EF3-4994-AFA3-7A0E663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3E4-B960-40BB-AA4C-06F931D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DA1-060C-4642-BA1B-6F6B9B3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78E-8913-4BB4-A290-561D24D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BB9-26BB-4E14-941C-B9480EA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9F1-EB7B-4EAA-87F1-60D02D9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8B7-542F-4FF2-8BFE-AFEF4C5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CA1-2A47-4D7A-B624-A408FC7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BED-04F0-4D3F-9629-B8B49248D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1430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W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ban Va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rc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Alexand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ban Ana-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siliu Cristi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Project manag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nuela Cer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il:emanuela.cerchez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2743200"/>
          <a:ext cx="4508640" cy="12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743200"/>
                    <a:ext cx="450864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dri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li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29360" y="1574280"/>
            <a:ext cx="2752200" cy="317556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river_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ru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loyees take care of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loyees need to know other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mployee may work in every activity of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 large experience in tourism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is tourism works in collaboration with other partners around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who command tickets by internet or by phone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will receive them home from the post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s get free transport to the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s who rent a car can drive it maxim             400 k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leisure and  business travel,  Travis can offer you good prices for accommodation in  hotels and pensions in any city of Romania,  mountain or Black Sea res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ick-up place isn’t Iassy you must make the reservation at least one day before the pick-up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nting a car if you change your mind about the period of time you must pay a tax if you want to take it back sooner, or to 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it other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pass the rented period you are going to be pen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mmer the holidays are set in places as: Italy, Egypt, Bulgaria, Spain, Gre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inter clients go skying in Denmark also they spend the holidays ( Christmas, New Year) in France (Paris), Italy,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atural catastrofes (calamities)/ bad weather the departure is anulated/canceled case in which people will get all their money back or the departure date is cha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rent-a-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 must be rented for a fixed period of 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osen by the cli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s are FULL-CASCO insured so if a damage occurs the Insu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ompany will pay fo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on-line reservation (airplane tick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ation date for a plane ticket must be done minimum 10 days and maximum 1 month before the departure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t allowed reservation for babies       (0-2 years) or children (2-12 years) with out an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ure date must be earlier than the arrival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rent-a-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-up date must be earlier then the drop-off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0666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Travis Tourism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in Iassy for business, we can provide you special packages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or car 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/congress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tour so that your travel to be both useful and plea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486400" y="2743200"/>
          <a:ext cx="2819520" cy="15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743200"/>
                    <a:ext cx="2819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person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rian Gradin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number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0745595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fice@travis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4120" y="3886200"/>
          <a:ext cx="3149640" cy="17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886200"/>
                    <a:ext cx="3149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is tourism need an information system to help them keep track of their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tement of the proposed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n information system relied on a database to store data, with an friendly user interface which will help your employees to get in no time the reports and the statistics they nee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employ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76600" y="1594440"/>
            <a:ext cx="2610720" cy="36691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hone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li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76600" y="1639080"/>
            <a:ext cx="2610720" cy="28933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la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firs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hone_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5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02800" y="1639080"/>
            <a:ext cx="2682000" cy="289332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ent hi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02800" y="1577520"/>
            <a:ext cx="2682000" cy="3245760"/>
          </a:xfrm>
          <a:prstGeom prst="rect">
            <a:avLst/>
          </a:prstGeom>
          <a:solidFill>
            <a:srgbClr val="9ab0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pick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rop_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r_of_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8:19:19Z</dcterms:created>
  <dc:creator>Wa$iLe</dc:creator>
  <dc:description/>
  <dc:language>en-US</dc:language>
  <cp:lastModifiedBy>Wa$iLe</cp:lastModifiedBy>
  <dcterms:modified xsi:type="dcterms:W3CDTF">2007-12-10T20:02:11Z</dcterms:modified>
  <cp:revision>30</cp:revision>
  <dc:subject/>
  <dc:title>DataModeling</dc:title>
</cp:coreProperties>
</file>