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6938-BD91-4931-A88D-2FAC7ECE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90B-7FF3-4526-ADA9-1BE3B223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2B9-A977-4CEC-8232-DF3E35DB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636-92F1-4679-96B6-F0F38CF2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149-4BA9-4E51-B390-9F74E849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52C-E3EF-4B9D-86CB-64F43D6D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FB1-9376-4421-8366-4CCF0D23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A8C-FB35-4496-9EAE-9703108D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B44-1F02-4B07-A664-6E84CFCD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2E7-A9AC-477C-8215-C728CFE1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4F7-E11C-4D55-B758-0203CE56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F72-EBC6-4010-8B05-9934D14F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7D46-1E2E-45B0-91E6-64D024804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1236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58920" y="2924280"/>
            <a:ext cx="6049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RFECT CONSULT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227640" y="5589720"/>
            <a:ext cx="23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durariu En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garu Miha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5734080"/>
            <a:ext cx="1512720" cy="952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89000"/>
            <a:ext cx="511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ach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EMANUELA CERCH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-mail addr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emanuela.cerchez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1557360"/>
            <a:ext cx="619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Business ru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1. STRUCTUR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3573360"/>
            <a:ext cx="90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Each road can be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bui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-up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 one and only one compa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We store an history of the works perform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162864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2. PROCEDUR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371680"/>
            <a:ext cx="8785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he type of the relief affects the type of the equipment u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he company deals with the structure of the roads and not with its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rehabilit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he type of ground effects the type of the asphalt u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62864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PROCEDUR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349360"/>
            <a:ext cx="82803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he team of workers will be supervised by an engine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he drivers are payed at km they do for the transport of the staple from producer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Only the director concludes all the contracts with the suppl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1628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PROCEDUR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492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he book-keeper takes the evidence of transports and costs caused by it: fuel, no of km made by each driver in part and also establishes the salary of each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1484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Assump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2349360"/>
            <a:ext cx="82087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We associate an id for each road, employee, supplier and constru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It can be build-up more roads in the same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here is one and only one direc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1547640"/>
            <a:ext cx="84247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Constra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A road can’t be build-up by more companies in the same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It won’t be made works in days of national holidays and on sun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he director is not participating directly to any construction or snow-clea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1547640"/>
            <a:ext cx="85694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WEATHER CONSTRA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It won't be any work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u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nfavourab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weather repor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In the winter time the company will clear the snow of the stre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In  the winter time, each driver who clear the snow is assigned a mechan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08000" y="5229360"/>
            <a:ext cx="1223640" cy="1512360"/>
            <a:chOff x="108000" y="5229360"/>
            <a:chExt cx="1223640" cy="1512360"/>
          </a:xfrm>
        </p:grpSpPr>
        <p:sp>
          <p:nvSpPr>
            <p:cNvPr id="119" name=""/>
            <p:cNvSpPr/>
            <p:nvPr/>
          </p:nvSpPr>
          <p:spPr>
            <a:xfrm>
              <a:off x="108000" y="5229360"/>
              <a:ext cx="1223640" cy="1512360"/>
            </a:xfrm>
            <a:custGeom>
              <a:avLst/>
              <a:gdLst>
                <a:gd name="textAreaLeft" fmla="*/ 59400 w 1223640"/>
                <a:gd name="textAreaRight" fmla="*/ 1164240 w 1223640"/>
                <a:gd name="textAreaTop" fmla="*/ 59400 h 1512360"/>
                <a:gd name="textAreaBottom" fmla="*/ 1452960 h 1512360"/>
              </a:gdLst>
              <a:ahLst/>
              <a:rect l="textAreaLeft" t="textAreaTop" r="textAreaRight" b="textAreaBottom"/>
              <a:pathLst>
                <a:path w="21600" h="26695">
                  <a:moveTo>
                    <a:pt x="3600" y="0"/>
                  </a:moveTo>
                  <a:arcTo wR="3600" hR="3600" stAng="16200000" swAng="-5400000"/>
                  <a:lnTo>
                    <a:pt x="0" y="23095"/>
                  </a:lnTo>
                  <a:arcTo wR="3600" hR="3600" stAng="10800000" swAng="-5400000"/>
                  <a:lnTo>
                    <a:pt x="18000" y="26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5400" y="5306040"/>
              <a:ext cx="1070640" cy="11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ECA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forecast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tempera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wi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precipit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740720" y="333360"/>
            <a:ext cx="1152360" cy="179856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798560"/>
              <a:gd name="textAreaBottom" fmla="*/ 1742400 h 1798560"/>
            </a:gdLst>
            <a:ahLst/>
            <a:rect l="textAreaLeft" t="textAreaTop" r="textAreaRight" b="textAreaBottom"/>
            <a:pathLst>
              <a:path w="21600" h="33709">
                <a:moveTo>
                  <a:pt x="3600" y="0"/>
                </a:moveTo>
                <a:arcTo wR="3600" hR="3600" stAng="16200000" swAng="-5400000"/>
                <a:lnTo>
                  <a:pt x="0" y="30109"/>
                </a:lnTo>
                <a:arcTo wR="3600" hR="3600" stAng="10800000" swAng="-5400000"/>
                <a:lnTo>
                  <a:pt x="18000" y="337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596360" y="2276640"/>
            <a:ext cx="1368360" cy="1152360"/>
            <a:chOff x="7596360" y="2276640"/>
            <a:chExt cx="1368360" cy="1152360"/>
          </a:xfrm>
        </p:grpSpPr>
        <p:sp>
          <p:nvSpPr>
            <p:cNvPr id="123" name=""/>
            <p:cNvSpPr/>
            <p:nvPr/>
          </p:nvSpPr>
          <p:spPr>
            <a:xfrm>
              <a:off x="7596360" y="2276640"/>
              <a:ext cx="1368360" cy="1152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67640" y="2349360"/>
              <a:ext cx="12240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construction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no of da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867280" y="5157720"/>
            <a:ext cx="1008360" cy="1511280"/>
          </a:xfrm>
          <a:custGeom>
            <a:avLst/>
            <a:gdLst>
              <a:gd name="textAreaLeft" fmla="*/ 48960 w 1008360"/>
              <a:gd name="textAreaRight" fmla="*/ 959400 w 1008360"/>
              <a:gd name="textAreaTop" fmla="*/ 48960 h 1511280"/>
              <a:gd name="textAreaBottom" fmla="*/ 1462320 h 1511280"/>
            </a:gdLst>
            <a:ahLst/>
            <a:rect l="textAreaLeft" t="textAreaTop" r="textAreaRight" b="textAreaBottom"/>
            <a:pathLst>
              <a:path w="21600" h="32369">
                <a:moveTo>
                  <a:pt x="3600" y="0"/>
                </a:moveTo>
                <a:arcTo wR="3600" hR="3600" stAng="16200000" swAng="-5400000"/>
                <a:lnTo>
                  <a:pt x="0" y="28769"/>
                </a:lnTo>
                <a:arcTo wR="3600" hR="3600" stAng="10800000" swAng="-5400000"/>
                <a:lnTo>
                  <a:pt x="18000" y="32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8120" y="5408640"/>
            <a:ext cx="857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5229360"/>
            <a:ext cx="75564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zone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coun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distri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t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loc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380360" y="4221000"/>
            <a:ext cx="1571400" cy="1008360"/>
            <a:chOff x="7380360" y="4221000"/>
            <a:chExt cx="1571400" cy="1008360"/>
          </a:xfrm>
        </p:grpSpPr>
        <p:sp>
          <p:nvSpPr>
            <p:cNvPr id="129" name=""/>
            <p:cNvSpPr/>
            <p:nvPr/>
          </p:nvSpPr>
          <p:spPr>
            <a:xfrm>
              <a:off x="7524720" y="4221000"/>
              <a:ext cx="1427040" cy="1008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80360" y="4724280"/>
              <a:ext cx="14270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96360" y="4581360"/>
              <a:ext cx="9522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start d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 end d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67640" y="4221000"/>
              <a:ext cx="12240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RUCTION PERI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524720" y="5373720"/>
            <a:ext cx="136836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96360" y="5516640"/>
            <a:ext cx="129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description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97800" y="6021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5950080"/>
            <a:ext cx="13683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type of the relie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Type of 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cli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898800" y="5084640"/>
            <a:ext cx="1538280" cy="1582920"/>
            <a:chOff x="3898800" y="5084640"/>
            <a:chExt cx="1538280" cy="1582920"/>
          </a:xfrm>
        </p:grpSpPr>
        <p:sp>
          <p:nvSpPr>
            <p:cNvPr id="138" name=""/>
            <p:cNvSpPr/>
            <p:nvPr/>
          </p:nvSpPr>
          <p:spPr>
            <a:xfrm>
              <a:off x="3898800" y="5084640"/>
              <a:ext cx="1081080" cy="1582920"/>
            </a:xfrm>
            <a:custGeom>
              <a:avLst/>
              <a:gdLst>
                <a:gd name="textAreaLeft" fmla="*/ 52560 w 1081080"/>
                <a:gd name="textAreaRight" fmla="*/ 1028520 w 1081080"/>
                <a:gd name="textAreaTop" fmla="*/ 52560 h 1582920"/>
                <a:gd name="textAreaBottom" fmla="*/ 1530360 h 1582920"/>
              </a:gdLst>
              <a:ahLst/>
              <a:rect l="textAreaLeft" t="textAreaTop" r="textAreaRight" b="textAreaBottom"/>
              <a:pathLst>
                <a:path w="21600" h="31623">
                  <a:moveTo>
                    <a:pt x="3600" y="0"/>
                  </a:moveTo>
                  <a:arcTo wR="3600" hR="3600" stAng="16200000" swAng="-5400000"/>
                  <a:lnTo>
                    <a:pt x="0" y="28023"/>
                  </a:lnTo>
                  <a:arcTo wR="3600" hR="3600" stAng="10800000" swAng="-5400000"/>
                  <a:lnTo>
                    <a:pt x="18000" y="316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95640" y="5229360"/>
              <a:ext cx="144144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road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leng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wid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breadth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typ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68360" y="620640"/>
            <a:ext cx="1150920" cy="863640"/>
            <a:chOff x="468360" y="620640"/>
            <a:chExt cx="1150920" cy="863640"/>
          </a:xfrm>
        </p:grpSpPr>
        <p:sp>
          <p:nvSpPr>
            <p:cNvPr id="141" name=""/>
            <p:cNvSpPr/>
            <p:nvPr/>
          </p:nvSpPr>
          <p:spPr>
            <a:xfrm>
              <a:off x="468360" y="620640"/>
              <a:ext cx="863280" cy="863640"/>
            </a:xfrm>
            <a:custGeom>
              <a:avLst/>
              <a:gdLst>
                <a:gd name="textAreaLeft" fmla="*/ 42120 w 863280"/>
                <a:gd name="textAreaRight" fmla="*/ 821160 w 863280"/>
                <a:gd name="textAreaTop" fmla="*/ 42120 h 863640"/>
                <a:gd name="textAreaBottom" fmla="*/ 821520 h 863640"/>
              </a:gdLst>
              <a:ahLst/>
              <a:rect l="textAreaLeft" t="textAreaTop" r="textAreaRight" b="textAreaBottom"/>
              <a:pathLst>
                <a:path w="21600" h="21609">
                  <a:moveTo>
                    <a:pt x="3600" y="0"/>
                  </a:moveTo>
                  <a:arcTo wR="3600" hR="3600" stAng="16200000" swAng="-5400000"/>
                  <a:lnTo>
                    <a:pt x="0" y="18009"/>
                  </a:lnTo>
                  <a:arcTo wR="3600" hR="3600" stAng="10800000" swAng="-5400000"/>
                  <a:lnTo>
                    <a:pt x="18000" y="21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8360" y="692280"/>
              <a:ext cx="11509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auction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typ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979640" y="5229360"/>
            <a:ext cx="1224000" cy="129528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295280"/>
              <a:gd name="textAreaBottom" fmla="*/ 1235520 h 1295280"/>
            </a:gdLst>
            <a:ahLst/>
            <a:rect l="textAreaLeft" t="textAreaTop" r="textAreaRight" b="textAreaBottom"/>
            <a:pathLst>
              <a:path w="21600" h="22858">
                <a:moveTo>
                  <a:pt x="3600" y="0"/>
                </a:moveTo>
                <a:arcTo wR="3600" hR="3600" stAng="16200000" swAng="-5400000"/>
                <a:lnTo>
                  <a:pt x="0" y="19258"/>
                </a:lnTo>
                <a:arcTo wR="3600" hR="3600" stAng="10800000" swAng="-5400000"/>
                <a:lnTo>
                  <a:pt x="18000" y="22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4000" y="5229360"/>
            <a:ext cx="12956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mon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holi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24000" y="2637000"/>
            <a:ext cx="1366560" cy="1008000"/>
            <a:chOff x="324000" y="2637000"/>
            <a:chExt cx="1366560" cy="1008000"/>
          </a:xfrm>
        </p:grpSpPr>
        <p:sp>
          <p:nvSpPr>
            <p:cNvPr id="146" name=""/>
            <p:cNvSpPr/>
            <p:nvPr/>
          </p:nvSpPr>
          <p:spPr>
            <a:xfrm>
              <a:off x="324000" y="2637000"/>
              <a:ext cx="1223640" cy="1008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5280" y="2709720"/>
              <a:ext cx="129528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HE CLEAR OF SN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 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332000" y="981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981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6000" y="2637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331640" y="90756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331640" y="981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708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588000" y="126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88000" y="1268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596360" y="112500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96360" y="1268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17080" y="342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8172360" y="407664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17080" y="4076640"/>
            <a:ext cx="142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172360" y="40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587700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31640" y="587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364000" y="5011560"/>
            <a:ext cx="2162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64000" y="5013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00328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03280" y="623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4360" y="623736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724360" y="616536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003640" y="609264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03640" y="623736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32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3284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547640" y="328464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1547640" y="321264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364500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45813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64500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84360" y="3644640"/>
            <a:ext cx="142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70036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48690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659640" y="26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5964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51640" y="263700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451640" y="249228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429264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308720" y="3284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08720" y="3284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451640" y="321264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51640" y="3284640"/>
            <a:ext cx="217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24000" y="6922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69228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787640" y="3357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24720" y="62028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24720" y="692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3789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877080" y="292392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7708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2421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58920" y="69228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w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47640" y="299736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m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2997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ke p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558972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58770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08720" y="595008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2360" y="638172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36000" y="587700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04000" y="558972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501336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2852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04000" y="2349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supp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03640" y="357336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v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8000" y="270828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supervi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400536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il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04000" y="306864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buil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3645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p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4941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3080" y="458136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03640" y="5805360"/>
            <a:ext cx="5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77080" y="47628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03640" y="314172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3640" y="24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98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choo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360" y="501336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12000" y="404640"/>
            <a:ext cx="10447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suppli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phone 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kind of sta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4000" y="404640"/>
            <a:ext cx="1368360" cy="439272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4392720"/>
              <a:gd name="textAreaBottom" fmla="*/ 4326120 h 4392720"/>
            </a:gdLst>
            <a:ahLst/>
            <a:rect l="textAreaLeft" t="textAreaTop" r="textAreaRight" b="textAreaBottom"/>
            <a:pathLst>
              <a:path w="21600" h="69328">
                <a:moveTo>
                  <a:pt x="3600" y="0"/>
                </a:moveTo>
                <a:arcTo wR="3600" hR="3600" stAng="16200000" swAng="-5400000"/>
                <a:lnTo>
                  <a:pt x="0" y="65728"/>
                </a:lnTo>
                <a:arcTo wR="3600" hR="3600" stAng="10800000" swAng="-5400000"/>
                <a:lnTo>
                  <a:pt x="18000" y="69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08360" y="476280"/>
            <a:ext cx="11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29160" y="763560"/>
            <a:ext cx="130176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employee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date of bi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sal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phone 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Hour relate for extra-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26000" y="2492280"/>
            <a:ext cx="846000" cy="3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2924280"/>
            <a:ext cx="102204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80000" y="3645000"/>
            <a:ext cx="93636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IN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cal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4149720"/>
            <a:ext cx="86652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97280" y="4508640"/>
            <a:ext cx="846000" cy="21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35280" y="328464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635280" y="321264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4787640" y="299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87640" y="30686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4643280" y="422064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643280" y="429264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4787640" y="328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78764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4716360" y="371592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716360" y="378936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78764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2924280"/>
            <a:ext cx="9349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car’s 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lice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67280" y="4149720"/>
            <a:ext cx="4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80000" y="4149720"/>
            <a:ext cx="9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8000" y="0"/>
            <a:ext cx="45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RELIMINARY ER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003640" y="573408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003640" y="558936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451640" y="285264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7451640" y="292392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755640" y="476280"/>
            <a:ext cx="1368360" cy="4392720"/>
            <a:chOff x="755640" y="476280"/>
            <a:chExt cx="1368360" cy="4392720"/>
          </a:xfrm>
        </p:grpSpPr>
        <p:sp>
          <p:nvSpPr>
            <p:cNvPr id="256" name=""/>
            <p:cNvSpPr/>
            <p:nvPr/>
          </p:nvSpPr>
          <p:spPr>
            <a:xfrm>
              <a:off x="755640" y="476280"/>
              <a:ext cx="1368360" cy="4392720"/>
            </a:xfrm>
            <a:custGeom>
              <a:avLst/>
              <a:gdLst>
                <a:gd name="textAreaLeft" fmla="*/ 66600 w 1368360"/>
                <a:gd name="textAreaRight" fmla="*/ 1301760 w 1368360"/>
                <a:gd name="textAreaTop" fmla="*/ 66600 h 4392720"/>
                <a:gd name="textAreaBottom" fmla="*/ 4326120 h 4392720"/>
              </a:gdLst>
              <a:ahLst/>
              <a:rect l="textAreaLeft" t="textAreaTop" r="textAreaRight" b="textAreaBottom"/>
              <a:pathLst>
                <a:path w="21600" h="69328">
                  <a:moveTo>
                    <a:pt x="3600" y="0"/>
                  </a:moveTo>
                  <a:arcTo wR="3600" hR="3600" stAng="16200000" swAng="-5400000"/>
                  <a:lnTo>
                    <a:pt x="0" y="65728"/>
                  </a:lnTo>
                  <a:arcTo wR="3600" hR="3600" stAng="10800000" swAng="-5400000"/>
                  <a:lnTo>
                    <a:pt x="18000" y="69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00000" y="547920"/>
              <a:ext cx="110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LOY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0800" y="835200"/>
              <a:ext cx="1301760" cy="17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employee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na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date of bir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sala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 phone no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  trai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Hour relate for extra-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17640" y="2563920"/>
              <a:ext cx="846000" cy="360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6920" y="2995920"/>
              <a:ext cx="1022400" cy="64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71640" y="3716640"/>
              <a:ext cx="936360" cy="431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cal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71640" y="4221360"/>
              <a:ext cx="866520" cy="28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88920" y="4580280"/>
              <a:ext cx="846000" cy="215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00000" y="2995920"/>
              <a:ext cx="9349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RI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car’s no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licen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58920" y="4221360"/>
              <a:ext cx="433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71640" y="4221360"/>
              <a:ext cx="93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ORK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516720" y="2421000"/>
            <a:ext cx="1368360" cy="1152360"/>
            <a:chOff x="6516720" y="2421000"/>
            <a:chExt cx="1368360" cy="1152360"/>
          </a:xfrm>
        </p:grpSpPr>
        <p:sp>
          <p:nvSpPr>
            <p:cNvPr id="268" name=""/>
            <p:cNvSpPr/>
            <p:nvPr/>
          </p:nvSpPr>
          <p:spPr>
            <a:xfrm>
              <a:off x="6516720" y="2421000"/>
              <a:ext cx="1368360" cy="1152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88000" y="2493720"/>
              <a:ext cx="12240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construction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no of da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276720" y="1052640"/>
            <a:ext cx="19447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119700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PLY 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2060640"/>
            <a:ext cx="194292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213372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VISION 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3068640"/>
            <a:ext cx="19429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314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35280" y="3213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48436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84360" y="126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132000" y="119664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32000" y="126828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38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771640" y="227664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1640" y="2276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132000" y="220464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32000" y="227664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35280" y="4365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9280" y="328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59280" y="3284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132000" y="321120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32000" y="328464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19640" y="1268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20000" y="1268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19640" y="3284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22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796000" y="2276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96000" y="28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24000" y="4437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24000" y="3284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24000" y="3860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2728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00360" y="90792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00360" y="299736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19640" y="2205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219640" y="2276640"/>
            <a:ext cx="1443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219640" y="328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19640" y="3213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219640" y="1267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19640" y="1197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12000" y="256536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12000" y="328464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13372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1964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2997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92720" y="981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80000" y="3645000"/>
            <a:ext cx="1368360" cy="93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6d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51280" y="472428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schedule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851280" y="4653000"/>
            <a:ext cx="1225440" cy="1800360"/>
            <a:chOff x="3851280" y="4653000"/>
            <a:chExt cx="1225440" cy="1800360"/>
          </a:xfrm>
        </p:grpSpPr>
        <p:sp>
          <p:nvSpPr>
            <p:cNvPr id="318" name=""/>
            <p:cNvSpPr/>
            <p:nvPr/>
          </p:nvSpPr>
          <p:spPr>
            <a:xfrm>
              <a:off x="3851280" y="4653000"/>
              <a:ext cx="1225440" cy="1800360"/>
            </a:xfrm>
            <a:custGeom>
              <a:avLst/>
              <a:gdLst>
                <a:gd name="textAreaLeft" fmla="*/ 59760 w 1225440"/>
                <a:gd name="textAreaRight" fmla="*/ 1165680 w 1225440"/>
                <a:gd name="textAreaTop" fmla="*/ 59760 h 1800360"/>
                <a:gd name="textAreaBottom" fmla="*/ 1740600 h 1800360"/>
              </a:gdLst>
              <a:ahLst/>
              <a:rect l="textAreaLeft" t="textAreaTop" r="textAreaRight" b="textAreaBottom"/>
              <a:pathLst>
                <a:path w="21600" h="31731">
                  <a:moveTo>
                    <a:pt x="3600" y="0"/>
                  </a:moveTo>
                  <a:arcTo wR="3600" hR="3600" stAng="16200000" swAng="-5400000"/>
                  <a:lnTo>
                    <a:pt x="0" y="28131"/>
                  </a:lnTo>
                  <a:arcTo wR="3600" hR="3600" stAng="10800000" swAng="-5400000"/>
                  <a:lnTo>
                    <a:pt x="18000" y="317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95640" y="5300640"/>
              <a:ext cx="863640" cy="28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95640" y="530064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95640" y="5661000"/>
              <a:ext cx="1008000" cy="28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95640" y="566100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ERVI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95640" y="6021360"/>
              <a:ext cx="863640" cy="28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95640" y="602136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059280" y="119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35640" y="119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3564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435640" y="3213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87640" y="33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108000" y="5229360"/>
            <a:ext cx="1223640" cy="1512360"/>
            <a:chOff x="108000" y="5229360"/>
            <a:chExt cx="1223640" cy="1512360"/>
          </a:xfrm>
        </p:grpSpPr>
        <p:sp>
          <p:nvSpPr>
            <p:cNvPr id="332" name=""/>
            <p:cNvSpPr/>
            <p:nvPr/>
          </p:nvSpPr>
          <p:spPr>
            <a:xfrm>
              <a:off x="108000" y="5229360"/>
              <a:ext cx="1223640" cy="1512360"/>
            </a:xfrm>
            <a:custGeom>
              <a:avLst/>
              <a:gdLst>
                <a:gd name="textAreaLeft" fmla="*/ 59400 w 1223640"/>
                <a:gd name="textAreaRight" fmla="*/ 1164240 w 1223640"/>
                <a:gd name="textAreaTop" fmla="*/ 59400 h 1512360"/>
                <a:gd name="textAreaBottom" fmla="*/ 1452960 h 1512360"/>
              </a:gdLst>
              <a:ahLst/>
              <a:rect l="textAreaLeft" t="textAreaTop" r="textAreaRight" b="textAreaBottom"/>
              <a:pathLst>
                <a:path w="21600" h="26695">
                  <a:moveTo>
                    <a:pt x="3600" y="0"/>
                  </a:moveTo>
                  <a:arcTo wR="3600" hR="3600" stAng="16200000" swAng="-5400000"/>
                  <a:lnTo>
                    <a:pt x="0" y="23095"/>
                  </a:lnTo>
                  <a:arcTo wR="3600" hR="3600" stAng="10800000" swAng="-5400000"/>
                  <a:lnTo>
                    <a:pt x="18000" y="26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5400" y="5306040"/>
              <a:ext cx="1070640" cy="11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ECA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forecast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tempera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wi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precipit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740720" y="333360"/>
            <a:ext cx="1152360" cy="151128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511280"/>
              <a:gd name="textAreaBottom" fmla="*/ 1455120 h 1511280"/>
            </a:gdLst>
            <a:ahLst/>
            <a:rect l="textAreaLeft" t="textAreaTop" r="textAreaRight" b="textAreaBottom"/>
            <a:pathLst>
              <a:path w="21600" h="28326">
                <a:moveTo>
                  <a:pt x="3600" y="0"/>
                </a:moveTo>
                <a:arcTo wR="3600" hR="3600" stAng="16200000" swAng="-5400000"/>
                <a:lnTo>
                  <a:pt x="0" y="24726"/>
                </a:lnTo>
                <a:arcTo wR="3600" hR="3600" stAng="10800000" swAng="-5400000"/>
                <a:lnTo>
                  <a:pt x="18000" y="283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96360" y="2276640"/>
            <a:ext cx="1368360" cy="11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2349360"/>
            <a:ext cx="12240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construction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no of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5157720"/>
            <a:ext cx="1008360" cy="1511280"/>
          </a:xfrm>
          <a:custGeom>
            <a:avLst/>
            <a:gdLst>
              <a:gd name="textAreaLeft" fmla="*/ 48960 w 1008360"/>
              <a:gd name="textAreaRight" fmla="*/ 959400 w 1008360"/>
              <a:gd name="textAreaTop" fmla="*/ 48960 h 1511280"/>
              <a:gd name="textAreaBottom" fmla="*/ 1462320 h 1511280"/>
            </a:gdLst>
            <a:ahLst/>
            <a:rect l="textAreaLeft" t="textAreaTop" r="textAreaRight" b="textAreaBottom"/>
            <a:pathLst>
              <a:path w="21600" h="32369">
                <a:moveTo>
                  <a:pt x="3600" y="0"/>
                </a:moveTo>
                <a:arcTo wR="3600" hR="3600" stAng="16200000" swAng="-5400000"/>
                <a:lnTo>
                  <a:pt x="0" y="28769"/>
                </a:lnTo>
                <a:arcTo wR="3600" hR="3600" stAng="10800000" swAng="-5400000"/>
                <a:lnTo>
                  <a:pt x="18000" y="32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18120" y="5408640"/>
            <a:ext cx="857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18120" y="5259240"/>
            <a:ext cx="75564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zone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coun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distri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t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loc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80360" y="4221000"/>
            <a:ext cx="1571400" cy="1008360"/>
            <a:chOff x="7380360" y="4221000"/>
            <a:chExt cx="1571400" cy="1008360"/>
          </a:xfrm>
        </p:grpSpPr>
        <p:sp>
          <p:nvSpPr>
            <p:cNvPr id="341" name=""/>
            <p:cNvSpPr/>
            <p:nvPr/>
          </p:nvSpPr>
          <p:spPr>
            <a:xfrm>
              <a:off x="7524720" y="4221000"/>
              <a:ext cx="1427040" cy="1008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80360" y="4724280"/>
              <a:ext cx="14270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96360" y="4581360"/>
              <a:ext cx="9522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start d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 end d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7640" y="4221000"/>
              <a:ext cx="12240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RUCTION PERI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7524720" y="5373720"/>
            <a:ext cx="136836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669080" y="551664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97800" y="6021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97800" y="5950080"/>
            <a:ext cx="13683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type of the relie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Type of 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cli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419640" y="5084640"/>
            <a:ext cx="1538280" cy="1582920"/>
            <a:chOff x="3419640" y="5084640"/>
            <a:chExt cx="1538280" cy="1582920"/>
          </a:xfrm>
        </p:grpSpPr>
        <p:sp>
          <p:nvSpPr>
            <p:cNvPr id="350" name=""/>
            <p:cNvSpPr/>
            <p:nvPr/>
          </p:nvSpPr>
          <p:spPr>
            <a:xfrm>
              <a:off x="3419640" y="5084640"/>
              <a:ext cx="1081080" cy="1582920"/>
            </a:xfrm>
            <a:custGeom>
              <a:avLst/>
              <a:gdLst>
                <a:gd name="textAreaLeft" fmla="*/ 52560 w 1081080"/>
                <a:gd name="textAreaRight" fmla="*/ 1028520 w 1081080"/>
                <a:gd name="textAreaTop" fmla="*/ 52560 h 1582920"/>
                <a:gd name="textAreaBottom" fmla="*/ 1530360 h 1582920"/>
              </a:gdLst>
              <a:ahLst/>
              <a:rect l="textAreaLeft" t="textAreaTop" r="textAreaRight" b="textAreaBottom"/>
              <a:pathLst>
                <a:path w="21600" h="31623">
                  <a:moveTo>
                    <a:pt x="3600" y="0"/>
                  </a:moveTo>
                  <a:arcTo wR="3600" hR="3600" stAng="16200000" swAng="-5400000"/>
                  <a:lnTo>
                    <a:pt x="0" y="28023"/>
                  </a:lnTo>
                  <a:arcTo wR="3600" hR="3600" stAng="10800000" swAng="-5400000"/>
                  <a:lnTo>
                    <a:pt x="18000" y="316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16480" y="5229360"/>
              <a:ext cx="144144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road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leng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wid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breadth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typ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68360" y="620640"/>
            <a:ext cx="1150920" cy="863640"/>
            <a:chOff x="468360" y="620640"/>
            <a:chExt cx="1150920" cy="863640"/>
          </a:xfrm>
        </p:grpSpPr>
        <p:sp>
          <p:nvSpPr>
            <p:cNvPr id="353" name=""/>
            <p:cNvSpPr/>
            <p:nvPr/>
          </p:nvSpPr>
          <p:spPr>
            <a:xfrm>
              <a:off x="468360" y="620640"/>
              <a:ext cx="863280" cy="863640"/>
            </a:xfrm>
            <a:custGeom>
              <a:avLst/>
              <a:gdLst>
                <a:gd name="textAreaLeft" fmla="*/ 42120 w 863280"/>
                <a:gd name="textAreaRight" fmla="*/ 821160 w 863280"/>
                <a:gd name="textAreaTop" fmla="*/ 42120 h 863640"/>
                <a:gd name="textAreaBottom" fmla="*/ 821520 h 863640"/>
              </a:gdLst>
              <a:ahLst/>
              <a:rect l="textAreaLeft" t="textAreaTop" r="textAreaRight" b="textAreaBottom"/>
              <a:pathLst>
                <a:path w="21600" h="21609">
                  <a:moveTo>
                    <a:pt x="3600" y="0"/>
                  </a:moveTo>
                  <a:arcTo wR="3600" hR="3600" stAng="16200000" swAng="-5400000"/>
                  <a:lnTo>
                    <a:pt x="0" y="18009"/>
                  </a:lnTo>
                  <a:arcTo wR="3600" hR="3600" stAng="10800000" swAng="-5400000"/>
                  <a:lnTo>
                    <a:pt x="18000" y="21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8360" y="692280"/>
              <a:ext cx="11509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auction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typ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979640" y="5229360"/>
            <a:ext cx="936720" cy="86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50920" y="5300640"/>
            <a:ext cx="1295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holi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4920" y="2637000"/>
            <a:ext cx="1366560" cy="1008000"/>
            <a:chOff x="34920" y="2637000"/>
            <a:chExt cx="1366560" cy="1008000"/>
          </a:xfrm>
        </p:grpSpPr>
        <p:sp>
          <p:nvSpPr>
            <p:cNvPr id="358" name=""/>
            <p:cNvSpPr/>
            <p:nvPr/>
          </p:nvSpPr>
          <p:spPr>
            <a:xfrm>
              <a:off x="34920" y="2637000"/>
              <a:ext cx="1223640" cy="1008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200" y="2709720"/>
              <a:ext cx="129528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HE CLEAR OF SN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 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332000" y="981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56000" y="981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56000" y="2492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1331640" y="90756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331640" y="981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126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317080" y="342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172360" y="407664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317080" y="4076640"/>
            <a:ext cx="142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77080" y="587700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331640" y="587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364000" y="5011560"/>
            <a:ext cx="2162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6400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500720" y="537372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9564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0" y="306864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195280" y="3787920"/>
            <a:ext cx="1443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2195280" y="37180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4360" y="364500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4360" y="45813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6836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9640" y="364500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84360" y="3644640"/>
            <a:ext cx="142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0036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00360" y="48690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9564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372000" y="692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508360" y="34286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50836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378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56000" y="249228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8920" y="69228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w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47640" y="558972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58920" y="58770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236000" y="587700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04000" y="558972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236000" y="501336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8000" y="371628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p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92360" y="4941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93080" y="458136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00720" y="508464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020000" y="69228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cl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93080" y="134136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700360" y="501336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812000" y="404640"/>
            <a:ext cx="1044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suppli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phone 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916360" y="260280"/>
            <a:ext cx="1368360" cy="439272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4392720"/>
              <a:gd name="textAreaBottom" fmla="*/ 4326120 h 4392720"/>
            </a:gdLst>
            <a:ahLst/>
            <a:rect l="textAreaLeft" t="textAreaTop" r="textAreaRight" b="textAreaBottom"/>
            <a:pathLst>
              <a:path w="21600" h="69328">
                <a:moveTo>
                  <a:pt x="3600" y="0"/>
                </a:moveTo>
                <a:arcTo wR="3600" hR="3600" stAng="16200000" swAng="-5400000"/>
                <a:lnTo>
                  <a:pt x="0" y="65728"/>
                </a:lnTo>
                <a:arcTo wR="3600" hR="3600" stAng="10800000" swAng="-5400000"/>
                <a:lnTo>
                  <a:pt x="18000" y="69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60720" y="331920"/>
            <a:ext cx="11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81160" y="619200"/>
            <a:ext cx="130176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employee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date of bi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sal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phone 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 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Hour relate for extra-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60720" y="2349360"/>
            <a:ext cx="846000" cy="3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32000" y="2779560"/>
            <a:ext cx="1022400" cy="64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32000" y="3500280"/>
            <a:ext cx="93672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IN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cal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32000" y="4005360"/>
            <a:ext cx="866880" cy="28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149640" y="4363920"/>
            <a:ext cx="8460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03640" y="2779560"/>
            <a:ext cx="9349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car’s 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lice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19640" y="4005360"/>
            <a:ext cx="43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32000" y="400536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506920" y="2637000"/>
            <a:ext cx="1225800" cy="1800000"/>
            <a:chOff x="5506920" y="2637000"/>
            <a:chExt cx="1225800" cy="1800000"/>
          </a:xfrm>
        </p:grpSpPr>
        <p:grpSp>
          <p:nvGrpSpPr>
            <p:cNvPr id="417" name=""/>
            <p:cNvGrpSpPr/>
            <p:nvPr/>
          </p:nvGrpSpPr>
          <p:grpSpPr>
            <a:xfrm>
              <a:off x="5506920" y="2637000"/>
              <a:ext cx="1225440" cy="1800000"/>
              <a:chOff x="5506920" y="2637000"/>
              <a:chExt cx="1225440" cy="1800000"/>
            </a:xfrm>
          </p:grpSpPr>
          <p:sp>
            <p:nvSpPr>
              <p:cNvPr id="418" name=""/>
              <p:cNvSpPr/>
              <p:nvPr/>
            </p:nvSpPr>
            <p:spPr>
              <a:xfrm>
                <a:off x="5506920" y="2637000"/>
                <a:ext cx="1225440" cy="1800000"/>
              </a:xfrm>
              <a:custGeom>
                <a:avLst/>
                <a:gdLst>
                  <a:gd name="textAreaLeft" fmla="*/ 59760 w 1225440"/>
                  <a:gd name="textAreaRight" fmla="*/ 1165680 w 1225440"/>
                  <a:gd name="textAreaTop" fmla="*/ 59760 h 1800000"/>
                  <a:gd name="textAreaBottom" fmla="*/ 1740240 h 1800000"/>
                </a:gdLst>
                <a:ahLst/>
                <a:rect l="textAreaLeft" t="textAreaTop" r="textAreaRight" b="textAreaBottom"/>
                <a:pathLst>
                  <a:path w="21600" h="31724">
                    <a:moveTo>
                      <a:pt x="3600" y="0"/>
                    </a:moveTo>
                    <a:arcTo wR="3600" hR="3600" stAng="16200000" swAng="-5400000"/>
                    <a:lnTo>
                      <a:pt x="0" y="28124"/>
                    </a:lnTo>
                    <a:arcTo wR="3600" hR="3600" stAng="10800000" swAng="-5400000"/>
                    <a:lnTo>
                      <a:pt x="18000" y="3172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51280" y="3284280"/>
                <a:ext cx="863640" cy="288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651280" y="3284280"/>
                <a:ext cx="1079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UPPL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51280" y="3644640"/>
                <a:ext cx="1008000" cy="288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51280" y="3644640"/>
                <a:ext cx="1079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UPERVIS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51280" y="4005000"/>
                <a:ext cx="863640" cy="288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51280" y="4005000"/>
                <a:ext cx="1079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580000" y="2708280"/>
              <a:ext cx="1152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 schedule_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140360" y="3141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8800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788000" y="3429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508360" y="37180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508360" y="3789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788000" y="378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0" y="4149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516360" y="3429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6516360" y="3357720"/>
            <a:ext cx="1443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6720" y="342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093080" y="2637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93080" y="2637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6659280" y="3715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6659280" y="3789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59640" y="37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236000" y="292392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236000" y="29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6516360" y="4076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651636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51672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738036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80360" y="371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788508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5508360" y="40784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508360" y="414936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364000" y="3357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64000" y="3718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64000" y="40784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357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77080" y="3718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40766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59280" y="386064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859280" y="314172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859280" y="35002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282920" y="3933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84720" y="3573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84720" y="29242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500360" y="5373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500360" y="5300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48360" y="333360"/>
            <a:ext cx="1224000" cy="151128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511280"/>
              <a:gd name="textAreaBottom" fmla="*/ 1451520 h 1511280"/>
            </a:gdLst>
            <a:ahLst/>
            <a:rect l="textAreaLeft" t="textAreaTop" r="textAreaRight" b="textAreaBottom"/>
            <a:pathLst>
              <a:path w="21600" h="26668">
                <a:moveTo>
                  <a:pt x="3600" y="0"/>
                </a:moveTo>
                <a:arcTo wR="3600" hR="3600" stAng="16200000" swAng="-5400000"/>
                <a:lnTo>
                  <a:pt x="0" y="23068"/>
                </a:lnTo>
                <a:arcTo wR="3600" hR="3600" stAng="10800000" swAng="-5400000"/>
                <a:lnTo>
                  <a:pt x="18000" y="26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6875280" y="580356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875280" y="5877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4360" y="234936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164360" y="270828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451640" y="342900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32720" y="2997360"/>
            <a:ext cx="43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77080" y="3429000"/>
            <a:ext cx="43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804000" y="3933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8360" y="333360"/>
            <a:ext cx="122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PORT CO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kind of stam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quant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40360" y="29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88000" y="1844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88000" y="98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88000" y="98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003640" y="90792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5003640" y="98064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32360" y="9079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44000" y="40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84720" y="270828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6372000" y="6188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372000" y="69228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588000" y="6206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500720" y="692280"/>
            <a:ext cx="9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u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88000" y="333360"/>
            <a:ext cx="9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co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2436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7596000" y="1267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7596000" y="1197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619280" y="3645000"/>
            <a:ext cx="792000" cy="288720"/>
            <a:chOff x="1619280" y="3645000"/>
            <a:chExt cx="792000" cy="288720"/>
          </a:xfrm>
        </p:grpSpPr>
        <p:sp>
          <p:nvSpPr>
            <p:cNvPr id="493" name=""/>
            <p:cNvSpPr/>
            <p:nvPr/>
          </p:nvSpPr>
          <p:spPr>
            <a:xfrm>
              <a:off x="1619280" y="3645000"/>
              <a:ext cx="576360" cy="288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19280" y="364500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ST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2556000" y="306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3141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32000" y="314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33200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1476000" y="3789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1476000" y="37162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41128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0328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411280" y="2852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50920" y="386064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332000" y="299736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116000" y="386064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788000" y="5734080"/>
            <a:ext cx="863640" cy="287280"/>
            <a:chOff x="4788000" y="5734080"/>
            <a:chExt cx="863640" cy="287280"/>
          </a:xfrm>
        </p:grpSpPr>
        <p:sp>
          <p:nvSpPr>
            <p:cNvPr id="508" name=""/>
            <p:cNvSpPr/>
            <p:nvPr/>
          </p:nvSpPr>
          <p:spPr>
            <a:xfrm>
              <a:off x="4788000" y="5734080"/>
              <a:ext cx="647640" cy="287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88000" y="5734080"/>
              <a:ext cx="86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ST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 flipH="1">
            <a:off x="5292720" y="64533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292720" y="602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00720" y="645336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3280" y="645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932360" y="602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59280" y="6021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932360" y="602136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219640" y="6021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292720" y="602136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364000" y="6453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92720" y="60213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00720" y="6453360"/>
            <a:ext cx="502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0" y="6021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427640" y="645336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79280" y="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FINAL ER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342900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885080" y="393372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92720" y="2060640"/>
            <a:ext cx="1366920" cy="50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365800" y="2060640"/>
            <a:ext cx="1150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contract_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148360" y="234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148360" y="2421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40360" y="2205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48360" y="1268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659640" y="22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43280" y="249228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co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77080" y="213372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co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555640" y="508464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00360" y="50846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1628640"/>
            <a:ext cx="835344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The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stablis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 in 1996, TED CONSTRUCT have the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agency office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Iasi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company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de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with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bui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 roads. The director wins au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22766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fered by ADP (The Assosiation of the Public Roads) and with a team of workers, they build-up that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1628640"/>
            <a:ext cx="734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Statement of the probl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D CONSTRUCT  needs an information system to help them organize their very active busi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4000" y="1557360"/>
            <a:ext cx="84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Statement of the proposed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propose a database that stores all the necessary information in an organized man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4000" y="155736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Information requirements of the busines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781360"/>
            <a:ext cx="504036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EMPLOY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 of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r relate for   extra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2178000"/>
            <a:ext cx="3024000" cy="4492800"/>
          </a:xfrm>
          <a:custGeom>
            <a:avLst/>
            <a:gdLst>
              <a:gd name="textAreaLeft" fmla="*/ 147600 w 3024000"/>
              <a:gd name="textAreaRight" fmla="*/ 2876400 w 3024000"/>
              <a:gd name="textAreaTop" fmla="*/ 147600 h 4492800"/>
              <a:gd name="textAreaBottom" fmla="*/ 4345200 h 4492800"/>
            </a:gdLst>
            <a:ahLst/>
            <a:rect l="textAreaLeft" t="textAreaTop" r="textAreaRight" b="textAreaBottom"/>
            <a:pathLst>
              <a:path w="21600" h="32090">
                <a:moveTo>
                  <a:pt x="3600" y="0"/>
                </a:moveTo>
                <a:arcTo wR="3600" hR="3600" stAng="16200000" swAng="-5400000"/>
                <a:lnTo>
                  <a:pt x="0" y="28490"/>
                </a:lnTo>
                <a:arcTo wR="3600" hR="3600" stAng="10800000" swAng="-5400000"/>
                <a:lnTo>
                  <a:pt x="18000" y="320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6d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05000"/>
            <a:ext cx="1584360" cy="337320"/>
          </a:xfrm>
          <a:prstGeom prst="rect">
            <a:avLst/>
          </a:prstGeom>
          <a:solidFill>
            <a:srgbClr val="b6d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27640" y="2492280"/>
            <a:ext cx="2089440" cy="1554120"/>
          </a:xfrm>
          <a:prstGeom prst="rect">
            <a:avLst/>
          </a:prstGeom>
          <a:solidFill>
            <a:srgbClr val="b6d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#employee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date of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 phone 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 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Hour relate for extra-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4986360"/>
            <a:ext cx="1584360" cy="366840"/>
          </a:xfrm>
          <a:prstGeom prst="rect">
            <a:avLst/>
          </a:prstGeom>
          <a:solidFill>
            <a:srgbClr val="b6d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4076640"/>
            <a:ext cx="1584360" cy="360360"/>
          </a:xfrm>
          <a:prstGeom prst="roundRect">
            <a:avLst>
              <a:gd name="adj" fmla="val 16667"/>
            </a:avLst>
          </a:prstGeom>
          <a:solidFill>
            <a:srgbClr val="b6d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654440"/>
            <a:ext cx="1584360" cy="503280"/>
          </a:xfrm>
          <a:prstGeom prst="roundRect">
            <a:avLst>
              <a:gd name="adj" fmla="val 16667"/>
            </a:avLst>
          </a:prstGeom>
          <a:solidFill>
            <a:srgbClr val="b6d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river's licenc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5302080"/>
            <a:ext cx="1584360" cy="503280"/>
          </a:xfrm>
          <a:prstGeom prst="roundRect">
            <a:avLst>
              <a:gd name="adj" fmla="val 16667"/>
            </a:avLst>
          </a:prstGeom>
          <a:solidFill>
            <a:srgbClr val="b6d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OUN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5878440"/>
            <a:ext cx="1513080" cy="289080"/>
          </a:xfrm>
          <a:prstGeom prst="roundRect">
            <a:avLst>
              <a:gd name="adj" fmla="val 16667"/>
            </a:avLst>
          </a:prstGeom>
          <a:solidFill>
            <a:srgbClr val="b6d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00720" y="6237360"/>
            <a:ext cx="1513080" cy="288720"/>
          </a:xfrm>
          <a:prstGeom prst="roundRect">
            <a:avLst>
              <a:gd name="adj" fmla="val 16667"/>
            </a:avLst>
          </a:prstGeom>
          <a:solidFill>
            <a:srgbClr val="b6d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1557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Information requirements of the busines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852640"/>
            <a:ext cx="496872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UPPLI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ne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nd of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tapl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32720" y="2637000"/>
            <a:ext cx="1655640" cy="259236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592360"/>
              <a:gd name="textAreaBottom" fmla="*/ 2511720 h 2592360"/>
            </a:gdLst>
            <a:ahLst/>
            <a:rect l="textAreaLeft" t="textAreaTop" r="textAreaRight" b="textAreaBottom"/>
            <a:pathLst>
              <a:path w="21600" h="33818">
                <a:moveTo>
                  <a:pt x="3600" y="0"/>
                </a:moveTo>
                <a:arcTo wR="3600" hR="3600" stAng="16200000" swAng="-5400000"/>
                <a:lnTo>
                  <a:pt x="0" y="30218"/>
                </a:lnTo>
                <a:arcTo wR="3600" hR="3600" stAng="10800000" swAng="-5400000"/>
                <a:lnTo>
                  <a:pt x="18000" y="338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6d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2708280"/>
            <a:ext cx="1368360" cy="2466360"/>
          </a:xfrm>
          <a:prstGeom prst="rect">
            <a:avLst/>
          </a:prstGeom>
          <a:solidFill>
            <a:srgbClr val="b6d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 supplier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phone 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kind of sta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162864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Information requirements of the busines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213000"/>
            <a:ext cx="417672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ZON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732720" y="2852640"/>
            <a:ext cx="1439640" cy="2160360"/>
            <a:chOff x="6732720" y="2852640"/>
            <a:chExt cx="1439640" cy="2160360"/>
          </a:xfrm>
        </p:grpSpPr>
        <p:sp>
          <p:nvSpPr>
            <p:cNvPr id="81" name=""/>
            <p:cNvSpPr/>
            <p:nvPr/>
          </p:nvSpPr>
          <p:spPr>
            <a:xfrm>
              <a:off x="6732720" y="2852640"/>
              <a:ext cx="1439640" cy="2160360"/>
            </a:xfrm>
            <a:custGeom>
              <a:avLst/>
              <a:gdLst>
                <a:gd name="textAreaLeft" fmla="*/ 70200 w 1439640"/>
                <a:gd name="textAreaRight" fmla="*/ 1369440 w 1439640"/>
                <a:gd name="textAreaTop" fmla="*/ 70200 h 2160360"/>
                <a:gd name="textAreaBottom" fmla="*/ 2090160 h 2160360"/>
              </a:gdLst>
              <a:ahLst/>
              <a:rect l="textAreaLeft" t="textAreaTop" r="textAreaRight" b="textAreaBottom"/>
              <a:pathLst>
                <a:path w="21600" h="32411">
                  <a:moveTo>
                    <a:pt x="3600" y="0"/>
                  </a:moveTo>
                  <a:arcTo wR="3600" hR="3600" stAng="16200000" swAng="-5400000"/>
                  <a:lnTo>
                    <a:pt x="0" y="28811"/>
                  </a:lnTo>
                  <a:arcTo wR="3600" hR="3600" stAng="10800000" swAng="-5400000"/>
                  <a:lnTo>
                    <a:pt x="18000" y="324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6d6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48360" y="3213000"/>
              <a:ext cx="1224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48360" y="2997000"/>
              <a:ext cx="10810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#zone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*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*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*tow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 loc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162864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8080"/>
                </a:solidFill>
                <a:uFillTx/>
                <a:latin typeface="Arial"/>
              </a:rPr>
              <a:t>Information requirements of the busines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645000"/>
            <a:ext cx="511164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FORECA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p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732720" y="3357720"/>
            <a:ext cx="1655640" cy="2087280"/>
            <a:chOff x="6732720" y="3357720"/>
            <a:chExt cx="1655640" cy="2087280"/>
          </a:xfrm>
        </p:grpSpPr>
        <p:sp>
          <p:nvSpPr>
            <p:cNvPr id="89" name=""/>
            <p:cNvSpPr/>
            <p:nvPr/>
          </p:nvSpPr>
          <p:spPr>
            <a:xfrm>
              <a:off x="6732720" y="3357720"/>
              <a:ext cx="1655640" cy="2087280"/>
            </a:xfrm>
            <a:custGeom>
              <a:avLst/>
              <a:gdLst>
                <a:gd name="textAreaLeft" fmla="*/ 80640 w 1655640"/>
                <a:gd name="textAreaRight" fmla="*/ 1575000 w 1655640"/>
                <a:gd name="textAreaTop" fmla="*/ 80640 h 2087280"/>
                <a:gd name="textAreaBottom" fmla="*/ 2006640 h 2087280"/>
              </a:gdLst>
              <a:ahLst/>
              <a:rect l="textAreaLeft" t="textAreaTop" r="textAreaRight" b="textAreaBottom"/>
              <a:pathLst>
                <a:path w="21600" h="27230">
                  <a:moveTo>
                    <a:pt x="3600" y="0"/>
                  </a:moveTo>
                  <a:arcTo wR="3600" hR="3600" stAng="16200000" swAng="-5400000"/>
                  <a:lnTo>
                    <a:pt x="0" y="23630"/>
                  </a:lnTo>
                  <a:arcTo wR="3600" hR="3600" stAng="10800000" swAng="-5400000"/>
                  <a:lnTo>
                    <a:pt x="18000" y="272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6d6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77080" y="3502080"/>
              <a:ext cx="1440000" cy="1604520"/>
            </a:xfrm>
            <a:prstGeom prst="rect">
              <a:avLst/>
            </a:prstGeom>
            <a:solidFill>
              <a:srgbClr val="b6d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RECA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#forecast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*tempera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*wi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*precipit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04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5:29:45Z</dcterms:created>
  <dc:creator>Windows XPower</dc:creator>
  <dc:description/>
  <dc:language>en-US</dc:language>
  <cp:lastModifiedBy>elev</cp:lastModifiedBy>
  <dcterms:modified xsi:type="dcterms:W3CDTF">2007-12-11T06:47:25Z</dcterms:modified>
  <cp:revision>52</cp:revision>
  <dc:subject/>
  <dc:title>Slide 1</dc:title>
</cp:coreProperties>
</file>