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CD7-F9ED-48F9-91C3-3FF06EE5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21E-89D7-4434-A7CC-13C0872B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186-DF2B-4C5E-83BE-81C4920C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75E-E7D7-4989-AD46-B2D4254E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BD27-E1C1-49CC-B84E-2345CEB4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42CB-77BE-43F4-8E07-23BBB85F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D9F0-F5AB-44DA-BCD1-5517009E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C65E-65AB-4CD2-82D0-F82509FB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A1E6-E476-45D2-938B-21CF989E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F668-57D1-45C7-A552-26190B0D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8992-6A37-4CD4-9B6C-2364CE10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DBA-5A2C-41B7-82F1-A43B52DC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AB17-D073-453A-AF28-91D0E3AE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0AB9-F2AD-4923-95B3-9A61A321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04B9-CD88-4E43-9239-2C6DD595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DF0B-1EE2-4591-B719-8A56B35E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269A-0DA6-4357-A681-2F1BD2F6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228-49B6-4454-8139-8527AB88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499-09CE-4D70-97C4-F8FA831D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69C-CBF3-44CA-BD0C-27D93259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13E-25B9-4EE2-828A-B4031F30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8FC-7227-49CC-8FB3-6E744963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33E-5373-4FC5-A2E4-64D7273B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970-77B0-495C-B78C-0607487D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009C-6D9D-4D38-9894-6899047E2548}" type="slidenum">
              <a:rPr b="0" lang="ro-RO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4B05-A98D-4CCE-A379-08CD3685D22A}" type="slidenum">
              <a:rPr b="0" lang="ro-RO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tnari.ro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59280" y="2637000"/>
            <a:ext cx="5689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Baskerville Old Face"/>
              </a:rPr>
              <a:t>SMART</a:t>
            </a:r>
            <a:br>
              <a:rPr sz="4400"/>
            </a:br>
            <a:r>
              <a:rPr b="1" lang="en-US" sz="4400" spc="-1" strike="noStrike">
                <a:solidFill>
                  <a:srgbClr val="006633"/>
                </a:solidFill>
                <a:latin typeface="Baskerville Old Face"/>
              </a:rPr>
              <a:t>    CONSULTING</a:t>
            </a:r>
            <a:br>
              <a:rPr sz="4400"/>
            </a:br>
            <a:r>
              <a:rPr b="1" lang="en-US" sz="4400" spc="-1" strike="noStrike">
                <a:solidFill>
                  <a:srgbClr val="006633"/>
                </a:solidFill>
                <a:latin typeface="Arial"/>
              </a:rPr>
              <a:t>        </a:t>
            </a:r>
            <a:r>
              <a:rPr b="0" i="1" lang="en-US" sz="3200" spc="-1" strike="noStrike">
                <a:solidFill>
                  <a:srgbClr val="006633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6633"/>
                </a:solidFill>
                <a:latin typeface="Arial Narrow"/>
              </a:rPr>
              <a:t>The wise choice for you”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280" y="5229360"/>
            <a:ext cx="2808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luca 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men Far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bina If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ela Pet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251000"/>
            <a:ext cx="5473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ntry: R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cher Classroom: Emanuela Cerch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cher e-mail address: emanuela.cerchez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Name: SC.COTNARI.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 School: “Grigore C. Moisil” - I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547640" y="2924280"/>
            <a:ext cx="2447640" cy="1078920"/>
            <a:chOff x="1547640" y="2924280"/>
            <a:chExt cx="2447640" cy="1078920"/>
          </a:xfrm>
        </p:grpSpPr>
        <p:grpSp>
          <p:nvGrpSpPr>
            <p:cNvPr id="90" name=""/>
            <p:cNvGrpSpPr/>
            <p:nvPr/>
          </p:nvGrpSpPr>
          <p:grpSpPr>
            <a:xfrm>
              <a:off x="1547640" y="3003480"/>
              <a:ext cx="542520" cy="512280"/>
              <a:chOff x="1547640" y="3003480"/>
              <a:chExt cx="542520" cy="512280"/>
            </a:xfrm>
          </p:grpSpPr>
          <p:sp>
            <p:nvSpPr>
              <p:cNvPr id="91" name=""/>
              <p:cNvSpPr/>
              <p:nvPr/>
            </p:nvSpPr>
            <p:spPr>
              <a:xfrm>
                <a:off x="1547640" y="300348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1040" y="300348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55160" y="300348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5160" y="319680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547640" y="319680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55160" y="338904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547640" y="338904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51040" y="338904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1910880" y="3344760"/>
              <a:ext cx="544320" cy="514080"/>
              <a:chOff x="1910880" y="3344760"/>
              <a:chExt cx="544320" cy="514080"/>
            </a:xfrm>
          </p:grpSpPr>
          <p:sp>
            <p:nvSpPr>
              <p:cNvPr id="100" name=""/>
              <p:cNvSpPr/>
              <p:nvPr/>
            </p:nvSpPr>
            <p:spPr>
              <a:xfrm>
                <a:off x="1910880" y="33447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115000" y="33447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19840" y="33447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319840" y="353880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10880" y="353880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319840" y="373176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10880" y="373176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15000" y="373176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2001600" y="2924280"/>
              <a:ext cx="135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8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3400" y="3422520"/>
              <a:ext cx="163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72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000" y="3357720"/>
            <a:ext cx="561636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ear when was produced the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84720" y="3141720"/>
            <a:ext cx="2303640" cy="223200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# expor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production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836640"/>
            <a:ext cx="813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.COTNARI.SA sign contracts with deli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/companies which assure the transports of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ot of countries from Europe and United States of Amer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308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309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318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5975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(White Wine Selection, Traditional Serie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fan cel Mare W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(Chateau Cotnari, G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Cotnari 2000, Blanc de Cotnari, Busuio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Moldova, Fetea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, Grasă de Cotnari, Tămâ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io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nea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, F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nc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de Cotnari, Voievod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tefan cel M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ear when the wine was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s it for current consume or from the wine Te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temperatu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torage th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43640" y="2133720"/>
            <a:ext cx="2303640" cy="266364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YPE OF W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wine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categ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production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bott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4720" y="776160"/>
            <a:ext cx="867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YP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333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334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343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525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 of wine which is s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of w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2120" y="868320"/>
            <a:ext cx="81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357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358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367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851280" y="2492280"/>
            <a:ext cx="2016000" cy="144144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# contract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signing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livery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26920" y="2349360"/>
            <a:ext cx="1729080" cy="158436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# client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hon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-mai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56000" y="3141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635280" y="2925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3141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04000" y="2421000"/>
            <a:ext cx="1800360" cy="136836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# firm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hon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86728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5867280" y="299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867280" y="3141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85080" y="285264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27400" y="321300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24000" y="4078440"/>
            <a:ext cx="1944720" cy="194292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YPE OF W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# wine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cate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production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bott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939280" y="285264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6000" y="3197160"/>
            <a:ext cx="91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51640" y="4510080"/>
            <a:ext cx="1873080" cy="122400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AB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# labelling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box_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crip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1636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16360" y="4797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508720" y="4652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08720" y="4797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067280" y="5445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508720" y="530172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08720" y="544500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54080" y="39164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16360" y="4510080"/>
            <a:ext cx="10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95640" y="5157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55180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94920" y="3860280"/>
            <a:ext cx="5040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bo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57800" y="3573360"/>
            <a:ext cx="2014560" cy="158436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B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labelling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box_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scrip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9400" y="1079640"/>
            <a:ext cx="829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ottle have a label where we find the name of wi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, production year and a little description about w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n we can consume that wi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408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409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418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468360" y="3573360"/>
            <a:ext cx="4402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of firm/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3213000"/>
            <a:ext cx="2158920" cy="223200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firm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on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907920"/>
            <a:ext cx="814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company signs contracts with delivery firms/companies which assure the transports of wine in a lot of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 OF DELI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</a:t>
            </a:r>
            <a:r>
              <a:rPr b="0" lang="en-US" sz="1800" spc="-1" strike="noStrike">
                <a:solidFill>
                  <a:srgbClr val="000000"/>
                </a:solidFill>
                <a:latin typeface="Gig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433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434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443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68000" y="3620880"/>
            <a:ext cx="2158920" cy="14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5280" y="84780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OF WINE has a certain price. The prices are changing in time and we must retain for each TYPE OF WINE the historical evolution of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457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458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467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700360" y="3068640"/>
            <a:ext cx="5688000" cy="2448000"/>
            <a:chOff x="2700360" y="3068640"/>
            <a:chExt cx="5688000" cy="2448000"/>
          </a:xfrm>
        </p:grpSpPr>
        <p:sp>
          <p:nvSpPr>
            <p:cNvPr id="479" name=""/>
            <p:cNvSpPr/>
            <p:nvPr/>
          </p:nvSpPr>
          <p:spPr>
            <a:xfrm>
              <a:off x="6539040" y="3327480"/>
              <a:ext cx="1849320" cy="1866960"/>
            </a:xfrm>
            <a:prstGeom prst="flowChartAlternateProcess">
              <a:avLst/>
            </a:prstGeom>
            <a:solidFill>
              <a:srgbClr val="ffde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540000" tIns="46800" bIns="4680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# price_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*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* start_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end_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00360" y="3068640"/>
              <a:ext cx="2192400" cy="2448000"/>
            </a:xfrm>
            <a:prstGeom prst="flowChartAlternateProcess">
              <a:avLst/>
            </a:prstGeom>
            <a:solidFill>
              <a:srgbClr val="ffde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540000" tIns="46800" bIns="46800" anchor="t" anchorCtr="1">
              <a:noAutofit/>
            </a:bodyPr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YPE OF W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# wine_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r>
                <a:rPr b="0" lang="ro-RO" sz="1600" spc="-1" strike="noStrike">
                  <a:solidFill>
                    <a:srgbClr val="000000"/>
                  </a:solidFill>
                  <a:latin typeface="Verdana"/>
                </a:rPr>
                <a:t>categor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*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*production ye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*temper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*bottle_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18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r>
                <a:rPr b="0" lang="ro-RO" sz="1600" spc="-1" strike="noStrike">
                  <a:solidFill>
                    <a:srgbClr val="000000"/>
                  </a:solidFill>
                  <a:latin typeface="Verdana"/>
                </a:rPr>
                <a:t> descri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92760" y="4229280"/>
              <a:ext cx="16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60360" y="386064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96000" y="4292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l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227280" y="4076640"/>
              <a:ext cx="287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7640" y="4221000"/>
              <a:ext cx="2890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12000" y="4076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8" name=""/>
          <p:cNvSpPr/>
          <p:nvPr/>
        </p:nvSpPr>
        <p:spPr>
          <a:xfrm>
            <a:off x="468360" y="1382760"/>
            <a:ext cx="706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LIST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of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690560" y="2781360"/>
            <a:ext cx="6194520" cy="3095640"/>
            <a:chOff x="1690560" y="2781360"/>
            <a:chExt cx="6194520" cy="3095640"/>
          </a:xfrm>
        </p:grpSpPr>
        <p:sp>
          <p:nvSpPr>
            <p:cNvPr id="490" name=""/>
            <p:cNvSpPr/>
            <p:nvPr/>
          </p:nvSpPr>
          <p:spPr>
            <a:xfrm>
              <a:off x="1690560" y="2852640"/>
              <a:ext cx="1729080" cy="1440000"/>
            </a:xfrm>
            <a:prstGeom prst="flowChartAlternateProcess">
              <a:avLst/>
            </a:prstGeom>
            <a:solidFill>
              <a:srgbClr val="ffde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540000" tIns="46800" bIns="4680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X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# export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production 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1280" y="4579920"/>
              <a:ext cx="1657440" cy="1297080"/>
            </a:xfrm>
            <a:prstGeom prst="flowChartAlternateProcess">
              <a:avLst/>
            </a:prstGeom>
            <a:solidFill>
              <a:srgbClr val="ffde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108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#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quant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categ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12000" y="2781360"/>
              <a:ext cx="1873080" cy="1657440"/>
            </a:xfrm>
            <a:prstGeom prst="flowChartAlternateProcess">
              <a:avLst/>
            </a:prstGeom>
            <a:solidFill>
              <a:srgbClr val="ffde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540000" tIns="46800" bIns="4680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ELI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FI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# firm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*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phone nu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69800" y="442116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77400" y="49244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18120" y="501336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24720" y="427680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04000" y="443700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506560" y="5300640"/>
              <a:ext cx="1297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11280" y="4294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11280" y="5300640"/>
              <a:ext cx="1440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635280" y="51573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35280" y="530208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5506920" y="515736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506920" y="5302080"/>
              <a:ext cx="1447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40360" y="5229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76720" y="5157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508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509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518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68000" y="1053720"/>
            <a:ext cx="8351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mployee is paid a salary every two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is exporting wine in European countries (for instance: Spain, Italy, Poland, Greece, Russia, England) and in America (for instance: SUA,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wine to be consumed the optima temperature should be kept at 20 degr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ld wine from the wine Tec should be kept at 10-20 degr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lity and quantity of wine depends on th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droughty year the quality of wine is hi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rainy year the quantity of wine is high than a droughty yea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ne is made from own viney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r is responsible for supervising all employee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SC. COTNARI. SA. Business rules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531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532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541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ssumptions. Constraint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ees don’t work in shif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mployee has one and only one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554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555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564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713640" y="476280"/>
            <a:ext cx="1547640" cy="180036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employee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firs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las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hone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birth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civil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451640" y="2565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713640" y="2286000"/>
            <a:ext cx="95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lo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7434360" y="2276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7289640" y="2276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465680" y="266688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s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642000" y="2924280"/>
            <a:ext cx="1656000" cy="151128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company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phone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e-mai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32000" y="344160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64000" y="293364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705120" y="2637000"/>
            <a:ext cx="1657440" cy="165564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 OF W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wine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categ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production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bott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O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11640" y="476280"/>
            <a:ext cx="1368360" cy="115236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price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start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end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340160" y="2359080"/>
            <a:ext cx="7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61520" y="165888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932360" y="1628280"/>
            <a:ext cx="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931640" y="162864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87640" y="162864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4798800" y="1916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403280" y="619200"/>
            <a:ext cx="1657440" cy="122544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AB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labelling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box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descrip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770200" y="3068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4360" y="2924280"/>
            <a:ext cx="1726920" cy="129672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 marL="179280" indent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contract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category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signing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delivery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 flipV="1">
            <a:off x="1692360" y="1844280"/>
            <a:ext cx="1440" cy="10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1692360" y="1844280"/>
            <a:ext cx="144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1547640" y="1844280"/>
            <a:ext cx="14472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708360" y="4508640"/>
            <a:ext cx="1584360" cy="107928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export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production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2790720" y="501336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508720" y="4508640"/>
            <a:ext cx="1224000" cy="93636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08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categ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336920" y="6021360"/>
            <a:ext cx="151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850000" y="544464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5826240" y="5432040"/>
            <a:ext cx="144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5705280" y="5446440"/>
            <a:ext cx="144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946920" y="4653000"/>
            <a:ext cx="1512720" cy="144144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firm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phone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281640" y="5444640"/>
            <a:ext cx="0" cy="57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6281640" y="5446440"/>
            <a:ext cx="14472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6136920" y="5446440"/>
            <a:ext cx="144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356000" y="558972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281640" y="6021360"/>
            <a:ext cx="66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4360" y="4797360"/>
            <a:ext cx="1728720" cy="1295640"/>
          </a:xfrm>
          <a:prstGeom prst="flowChartAlternateProcess">
            <a:avLst/>
          </a:prstGeom>
          <a:solidFill>
            <a:srgbClr val="ffde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# client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phone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 e-mai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5362200" y="3284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362200" y="3429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62560" y="3429000"/>
            <a:ext cx="127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615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616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625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360360" y="189000"/>
            <a:ext cx="11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 Rounded MT Bold"/>
              </a:rPr>
              <a:t>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451640" y="22766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2771640" y="184464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770200" y="1844640"/>
            <a:ext cx="144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2625480" y="1844640"/>
            <a:ext cx="144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771640" y="371628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711440" y="4220640"/>
            <a:ext cx="0" cy="57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690560" y="4208040"/>
            <a:ext cx="14472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 flipV="1">
            <a:off x="1545840" y="4208040"/>
            <a:ext cx="144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67560" y="581832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314040" y="544500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50400" y="55166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227640" y="573408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5795640" y="57340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075200" y="560232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745360" y="47386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304360" y="3500280"/>
            <a:ext cx="79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74360" y="453852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28440" y="4233960"/>
            <a:ext cx="72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g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71920" y="19303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85160" y="266688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30560" y="28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24120" y="1930320"/>
            <a:ext cx="83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492360" y="4868640"/>
            <a:ext cx="2160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92360" y="5013360"/>
            <a:ext cx="216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411280" y="3716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6764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ompany produces and sells different kinds of wines like White Wine Selection, Traditional Series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fan cel Mare Wine and so 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.COTNARI.SA have contracts with delivery firms/companies in a lot of countries (for instance: Italy, Spain, SUA, Canada etc.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1413000"/>
            <a:ext cx="5673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SC.COTNARI.S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07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6948360" y="5662440"/>
            <a:ext cx="2447640" cy="1078920"/>
            <a:chOff x="6948360" y="5662440"/>
            <a:chExt cx="2447640" cy="1078920"/>
          </a:xfrm>
        </p:grpSpPr>
        <p:grpSp>
          <p:nvGrpSpPr>
            <p:cNvPr id="114" name=""/>
            <p:cNvGrpSpPr/>
            <p:nvPr/>
          </p:nvGrpSpPr>
          <p:grpSpPr>
            <a:xfrm>
              <a:off x="6948360" y="5741640"/>
              <a:ext cx="542520" cy="512280"/>
              <a:chOff x="6948360" y="5741640"/>
              <a:chExt cx="542520" cy="512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4836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15176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5588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55880" y="593496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948360" y="593496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35588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94836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15176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311600" y="6082920"/>
              <a:ext cx="544320" cy="514080"/>
              <a:chOff x="7311600" y="6082920"/>
              <a:chExt cx="544320" cy="514080"/>
            </a:xfrm>
          </p:grpSpPr>
          <p:sp>
            <p:nvSpPr>
              <p:cNvPr id="124" name=""/>
              <p:cNvSpPr/>
              <p:nvPr/>
            </p:nvSpPr>
            <p:spPr>
              <a:xfrm>
                <a:off x="731160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1572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72056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720560" y="62769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311600" y="62769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72056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1160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51572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7402320" y="5662440"/>
              <a:ext cx="135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8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64120" y="6160680"/>
              <a:ext cx="163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72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79280" y="4076280"/>
            <a:ext cx="655308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studied the SC. COTNARI. SA business in order to model an efficient database to suit its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948360" y="5662440"/>
            <a:ext cx="2447640" cy="1078920"/>
            <a:chOff x="6948360" y="5662440"/>
            <a:chExt cx="2447640" cy="1078920"/>
          </a:xfrm>
        </p:grpSpPr>
        <p:grpSp>
          <p:nvGrpSpPr>
            <p:cNvPr id="136" name=""/>
            <p:cNvGrpSpPr/>
            <p:nvPr/>
          </p:nvGrpSpPr>
          <p:grpSpPr>
            <a:xfrm>
              <a:off x="6948360" y="5741640"/>
              <a:ext cx="542520" cy="512280"/>
              <a:chOff x="6948360" y="5741640"/>
              <a:chExt cx="542520" cy="512280"/>
            </a:xfrm>
          </p:grpSpPr>
          <p:sp>
            <p:nvSpPr>
              <p:cNvPr id="137" name=""/>
              <p:cNvSpPr/>
              <p:nvPr/>
            </p:nvSpPr>
            <p:spPr>
              <a:xfrm>
                <a:off x="694836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5176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5588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355880" y="593496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48360" y="593496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5588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94836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7311600" y="6082920"/>
              <a:ext cx="544320" cy="514080"/>
              <a:chOff x="7311600" y="6082920"/>
              <a:chExt cx="544320" cy="514080"/>
            </a:xfrm>
          </p:grpSpPr>
          <p:sp>
            <p:nvSpPr>
              <p:cNvPr id="146" name=""/>
              <p:cNvSpPr/>
              <p:nvPr/>
            </p:nvSpPr>
            <p:spPr>
              <a:xfrm>
                <a:off x="731160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51572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72056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720560" y="62769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11600" y="62769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2056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1160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51572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402320" y="5662440"/>
              <a:ext cx="135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8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64120" y="6160680"/>
              <a:ext cx="163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72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63640" y="1413000"/>
            <a:ext cx="5673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SC.COTNARI.S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072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34920" y="2205000"/>
            <a:ext cx="4103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Referenc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979280" y="4149360"/>
            <a:ext cx="65530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C. COTNARI. SA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ebsi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www.cotnari.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view with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oan Mate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SC. COTNARI. SA manage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one:        +40 232 730 29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1413000"/>
            <a:ext cx="5673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SC.COTNARI.S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7207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7020000" y="5662440"/>
            <a:ext cx="2447640" cy="1078920"/>
            <a:chOff x="7020000" y="5662440"/>
            <a:chExt cx="2447640" cy="1078920"/>
          </a:xfrm>
        </p:grpSpPr>
        <p:grpSp>
          <p:nvGrpSpPr>
            <p:cNvPr id="163" name=""/>
            <p:cNvGrpSpPr/>
            <p:nvPr/>
          </p:nvGrpSpPr>
          <p:grpSpPr>
            <a:xfrm>
              <a:off x="7020000" y="5741640"/>
              <a:ext cx="542520" cy="512280"/>
              <a:chOff x="7020000" y="5741640"/>
              <a:chExt cx="542520" cy="512280"/>
            </a:xfrm>
          </p:grpSpPr>
          <p:sp>
            <p:nvSpPr>
              <p:cNvPr id="164" name=""/>
              <p:cNvSpPr/>
              <p:nvPr/>
            </p:nvSpPr>
            <p:spPr>
              <a:xfrm>
                <a:off x="702000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22340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427520" y="574164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27520" y="593496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20000" y="5934960"/>
                <a:ext cx="135000" cy="12708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42752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2000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23400" y="6127200"/>
                <a:ext cx="135000" cy="126720"/>
              </a:xfrm>
              <a:prstGeom prst="rect">
                <a:avLst/>
              </a:prstGeom>
              <a:solidFill>
                <a:srgbClr val="ffa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383240" y="6082920"/>
              <a:ext cx="544320" cy="514080"/>
              <a:chOff x="7383240" y="6082920"/>
              <a:chExt cx="544320" cy="514080"/>
            </a:xfrm>
          </p:grpSpPr>
          <p:sp>
            <p:nvSpPr>
              <p:cNvPr id="173" name=""/>
              <p:cNvSpPr/>
              <p:nvPr/>
            </p:nvSpPr>
            <p:spPr>
              <a:xfrm>
                <a:off x="738324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8736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92200" y="608292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92200" y="62769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83240" y="6276960"/>
                <a:ext cx="135360" cy="12744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9220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8324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587360" y="6469920"/>
                <a:ext cx="135360" cy="1270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7473960" y="5662440"/>
              <a:ext cx="135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8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35760" y="6160680"/>
              <a:ext cx="163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72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623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tatement of the proble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981080" y="39816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.COTNARI.SA needs an information system to help them keep track of their continuous growing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332840" y="6016680"/>
            <a:ext cx="1847160" cy="941040"/>
            <a:chOff x="7332840" y="6016680"/>
            <a:chExt cx="1847160" cy="941040"/>
          </a:xfrm>
        </p:grpSpPr>
        <p:grpSp>
          <p:nvGrpSpPr>
            <p:cNvPr id="186" name=""/>
            <p:cNvGrpSpPr/>
            <p:nvPr/>
          </p:nvGrpSpPr>
          <p:grpSpPr>
            <a:xfrm>
              <a:off x="7332840" y="6161040"/>
              <a:ext cx="359640" cy="360000"/>
              <a:chOff x="7332840" y="6161040"/>
              <a:chExt cx="359640" cy="360000"/>
            </a:xfrm>
          </p:grpSpPr>
          <p:sp>
            <p:nvSpPr>
              <p:cNvPr id="187" name=""/>
              <p:cNvSpPr/>
              <p:nvPr/>
            </p:nvSpPr>
            <p:spPr>
              <a:xfrm>
                <a:off x="7332840" y="616104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67840" y="616104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603200" y="616104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603200" y="62971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32840" y="62971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03200" y="643212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32840" y="643212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467840" y="643212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561080" y="6377040"/>
              <a:ext cx="346680" cy="337680"/>
              <a:chOff x="7561080" y="6377040"/>
              <a:chExt cx="346680" cy="337680"/>
            </a:xfrm>
          </p:grpSpPr>
          <p:sp>
            <p:nvSpPr>
              <p:cNvPr id="196" name=""/>
              <p:cNvSpPr/>
              <p:nvPr/>
            </p:nvSpPr>
            <p:spPr>
              <a:xfrm>
                <a:off x="7561080" y="637704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691040" y="637704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21720" y="637704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821720" y="650448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61080" y="650448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21720" y="663120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561080" y="663120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91040" y="663120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580160" y="601668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35760" y="637704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920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tatement of the proposed sol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981080" y="3962160"/>
            <a:ext cx="65534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base that would store all the employees information and the SC.COTNARI.SA activities in a consistent and organized ma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332840" y="6016680"/>
            <a:ext cx="1847160" cy="941040"/>
            <a:chOff x="7332840" y="6016680"/>
            <a:chExt cx="1847160" cy="941040"/>
          </a:xfrm>
        </p:grpSpPr>
        <p:grpSp>
          <p:nvGrpSpPr>
            <p:cNvPr id="209" name=""/>
            <p:cNvGrpSpPr/>
            <p:nvPr/>
          </p:nvGrpSpPr>
          <p:grpSpPr>
            <a:xfrm>
              <a:off x="7332840" y="6161040"/>
              <a:ext cx="359640" cy="360000"/>
              <a:chOff x="7332840" y="6161040"/>
              <a:chExt cx="359640" cy="360000"/>
            </a:xfrm>
          </p:grpSpPr>
          <p:sp>
            <p:nvSpPr>
              <p:cNvPr id="210" name=""/>
              <p:cNvSpPr/>
              <p:nvPr/>
            </p:nvSpPr>
            <p:spPr>
              <a:xfrm>
                <a:off x="7332840" y="616104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467840" y="616104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03200" y="616104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603200" y="62971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32840" y="62971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603200" y="643212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32840" y="643212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67840" y="643212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7561080" y="6377040"/>
              <a:ext cx="346680" cy="337680"/>
              <a:chOff x="7561080" y="6377040"/>
              <a:chExt cx="346680" cy="337680"/>
            </a:xfrm>
          </p:grpSpPr>
          <p:sp>
            <p:nvSpPr>
              <p:cNvPr id="219" name=""/>
              <p:cNvSpPr/>
              <p:nvPr/>
            </p:nvSpPr>
            <p:spPr>
              <a:xfrm>
                <a:off x="7561080" y="637704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691040" y="637704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821720" y="637704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821720" y="650448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61080" y="650448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821720" y="663120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561080" y="663120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91040" y="663120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580160" y="601668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35760" y="637704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7512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number (if 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status (married, unmarr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s (highest qual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51640" y="2565360"/>
            <a:ext cx="2158920" cy="3095640"/>
          </a:xfrm>
          <a:prstGeom prst="flowChartAlternateProcess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# employee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phon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civil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stud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233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243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8360" y="16286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532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of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 ranch, economical, incorporate (laboratory of analysis physical-chemical and microbiology, the place of wrapper wine, department of conditionality, storehouse of finite products – the boxes with w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84720" y="2997360"/>
            <a:ext cx="2159280" cy="259056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# departmen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phon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e-mai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0360" y="797040"/>
            <a:ext cx="87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SC.COTNARI.SA have more departments, situated in different places. Each department has more districts. We need to use an hierarchical  stru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258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259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268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23640" y="2349000"/>
            <a:ext cx="3097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of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205000"/>
            <a:ext cx="2232000" cy="2232000"/>
          </a:xfrm>
          <a:prstGeom prst="flowChartAlternateProcess">
            <a:avLst/>
          </a:prstGeom>
          <a:solidFill>
            <a:srgbClr val="ffde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54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# clien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phon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e-mai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0680" y="1022400"/>
            <a:ext cx="75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clients are firms/compa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llowing information is need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332840" y="6087960"/>
            <a:ext cx="1847160" cy="941040"/>
            <a:chOff x="7332840" y="6087960"/>
            <a:chExt cx="1847160" cy="941040"/>
          </a:xfrm>
        </p:grpSpPr>
        <p:grpSp>
          <p:nvGrpSpPr>
            <p:cNvPr id="283" name=""/>
            <p:cNvGrpSpPr/>
            <p:nvPr/>
          </p:nvGrpSpPr>
          <p:grpSpPr>
            <a:xfrm>
              <a:off x="7332840" y="6232320"/>
              <a:ext cx="359640" cy="360000"/>
              <a:chOff x="7332840" y="6232320"/>
              <a:chExt cx="359640" cy="360000"/>
            </a:xfrm>
          </p:grpSpPr>
          <p:sp>
            <p:nvSpPr>
              <p:cNvPr id="284" name=""/>
              <p:cNvSpPr/>
              <p:nvPr/>
            </p:nvSpPr>
            <p:spPr>
              <a:xfrm>
                <a:off x="7332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784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03200" y="623232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0320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332840" y="6368400"/>
                <a:ext cx="89280" cy="8928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0320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32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67840" y="6503400"/>
                <a:ext cx="89280" cy="88920"/>
              </a:xfrm>
              <a:prstGeom prst="rect">
                <a:avLst/>
              </a:prstGeom>
              <a:solidFill>
                <a:srgbClr val="ffb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7561080" y="6448320"/>
              <a:ext cx="346680" cy="337680"/>
              <a:chOff x="7561080" y="6448320"/>
              <a:chExt cx="346680" cy="337680"/>
            </a:xfrm>
          </p:grpSpPr>
          <p:sp>
            <p:nvSpPr>
              <p:cNvPr id="293" name=""/>
              <p:cNvSpPr/>
              <p:nvPr/>
            </p:nvSpPr>
            <p:spPr>
              <a:xfrm>
                <a:off x="756108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9104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821720" y="644832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82172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61080" y="6575760"/>
                <a:ext cx="86040" cy="8388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82172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6108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91040" y="6702480"/>
                <a:ext cx="86040" cy="83520"/>
              </a:xfrm>
              <a:prstGeom prst="rect">
                <a:avLst/>
              </a:prstGeom>
              <a:solidFill>
                <a:srgbClr val="2da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7580160" y="6087960"/>
              <a:ext cx="11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2dad6a"/>
                  </a:solidFill>
                  <a:latin typeface="Arial Rounded MT Bold"/>
                </a:rPr>
                <a:t>SMART</a:t>
              </a: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dad6a"/>
                  </a:solidFill>
                  <a:latin typeface="Arial Rounded MT Bold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35760" y="6448320"/>
              <a:ext cx="13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74f"/>
                  </a:solidFill>
                  <a:latin typeface="Arial Rounded MT Bold"/>
                </a:rPr>
                <a:t>Consul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Information needs of the orga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9:46:15Z</dcterms:created>
  <dc:creator>RAZVAN</dc:creator>
  <dc:description/>
  <dc:language>en-US</dc:language>
  <cp:lastModifiedBy>RAZVAN</cp:lastModifiedBy>
  <dcterms:modified xsi:type="dcterms:W3CDTF">2007-12-10T17:56:52Z</dcterms:modified>
  <cp:revision>1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